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4800-C969-4073-A929-92377BB29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86C6-D2EB-4A19-AED8-29877E15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09C145-983F-40E9-AA19-5FC4F897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E2E16F-B681-430B-819A-57B84748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58E155-7E75-4FAB-B2A5-94B7254E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732A9F-C3FA-45D6-AE9A-B6ADA398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F33C73-12C4-4282-ABCD-78B5A9AB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6B3402-E378-46B9-ACAB-16141BB1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06A1F2-52BA-4DBF-BC84-6B788BCD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D72A55-B2CF-4E19-9A19-996B03ED1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36775C-6214-45A4-9C24-B7E566CAA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B414CD-FA24-46AB-A20D-FAB08486F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D9BB-3FA0-446C-A0E8-498E135AF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B1F0C2-F62F-4921-8209-527C2FDC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690510-AD14-4571-B8F9-8EBC4B1F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6E5BFD-7F1C-41BA-A66E-F61E4C08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5DCAD6-BEC8-4E31-A1AE-D69E507F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4D951F-373B-453F-8AAE-415BAE60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2729FC-43AD-43FA-9E93-214415BD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16CA95-616F-4C8B-9C37-4714199C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BC35DF-7FB7-4FC8-819F-E31BDCF6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FA2D05-B404-4706-AC0B-707BA0AD5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30025F-F27C-4DBA-8FC6-35AA72DD2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C29E-A8AB-47C3-8630-DC4D1E7A4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648678-8AFA-4206-BCFE-D6743A0C3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62311D-3F36-431E-9C7E-AC125611F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1A404D-3032-44DF-B7BB-4EABEB2B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45CCA-4BBA-4CC7-8219-60C631A6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F00E1-8A1C-46BD-A1C4-D6747580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D1B588-FE58-45B8-A0D3-032F1436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CD535-82C5-4BB4-B3FD-E1E8E666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D041FF-A3EB-41D5-9808-3B5606D4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857FC8-8C88-4933-87C6-AB687273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B6F1C6-4744-43FC-AB70-0826A1A5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FD3AE-4095-4722-9EB4-ABE43DA2B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43090-2D65-45D2-852F-920BB7BA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91B725-29F9-407F-8430-1C05D4623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0F21A-74B8-4778-A7A2-CFA5D4CE7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67F47D-8DC2-4A41-9A61-7A8F1DE01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965D9D-DE9E-4899-9413-7D02F39C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617270-435D-4686-ABA0-D23A9A20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BF7B58-47AB-4D7F-A88D-77DC1110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169D60-E4D7-4666-A942-2AE0526B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333501-3871-4A6A-A223-1D9945B8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BB58EA-7BB9-4E38-B446-EED362CC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FD67-2423-4AB8-989C-4D5D23CA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4E2C3F-C43B-46CC-B5DC-AB71CED7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070586-CE76-4C5C-9C7A-386051C9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801AF4-8CB8-4863-B735-01BF73B9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C09144-9AEA-4DF6-B078-B6A8C4580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35EFBD-CBA7-43AB-A1AC-7EF8A09F5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C7838-B0D1-401A-8736-B316252BF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AD6F-47B5-42BC-849D-D7D02B2C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EB9B-D3E0-42DE-A838-51DA1650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C701-F011-4289-9302-AE864063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0DE0-277A-4F3F-BB79-E3B18150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7B8F-8F52-404D-B077-496A741D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8ABE-C2BE-4DB6-BBF3-8094EEB1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511F-37A9-4D1D-8C34-EC43CA08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49EEB-5121-4D7B-83F0-050933EC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5F54-310C-4CEF-879A-BDC0812CD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9214-72D9-45E4-967D-B1320390D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A9F9B-6D35-4986-B34A-D12F83437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90D7C-B0FE-4F71-A947-BCD873BB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1E54F-0963-4C5D-934E-F4BB8E7D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A3E68-FAE7-43BA-BADC-3A236C40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49DCA-335D-4B03-BF1B-103C97F1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E9F0-2DF9-4FE7-B34E-90566EC4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ABCD8-C3FA-4288-B176-260E749E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D0A73-2FC9-441C-8386-1C3DFF02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DD0D9-8FC0-47D9-81E5-427B04C3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EBB55-1B29-4478-957C-A683CA87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23689-7007-462B-BF66-EF056B53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05866-DF89-4A53-A952-C30D70EA2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E8B7C-ECB6-4377-9F7D-6EA4B07A2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EDF04-CB87-4B86-AA14-200FC0D99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B9EBB-D4E1-4B0E-B68E-074F6C11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6DA42-ED5D-4D6C-9889-AD490209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4498-1C94-445E-AD3F-028CE6B5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09BFF-6537-43C5-8A46-932EFD0A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BE61B-C0E9-4132-966B-9C06A788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6906E-3938-4F67-B32A-11340CCC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AB26E-0E13-4B5D-B29E-93481984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9AE90-1C5D-4D19-9226-4D7C50A8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759E8-EBFB-4A2D-8764-E6BCD933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6D328-8B5F-4D7F-8758-4849D650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780FC-9E90-4E15-B154-9F5EF78BC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08199-2ED6-43A4-8361-F670C6130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9E9A0-FE4B-41D9-B62C-0D7AAF8A7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61F1-BD53-456A-9303-6835B9E2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B53B7-B2FB-4412-A770-C82133E2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72BAF-749B-4926-9818-ACD566CD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91638-8654-47BB-9ED5-EF3842A1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CE826-45FF-4119-BB6F-9680EC54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CE8B8-ADBB-4E79-9742-53114398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C3CE4-A48D-47E0-8231-114B948E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A8311-06BA-43E1-A461-36B5EB2F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E782C-798D-4803-85F4-3099350A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3309A-03A4-4BFB-B813-CCFA75D1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B6046-5006-482B-89B8-3D3F814E4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EAFF-66DF-4AC5-B97E-C3EA7F48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A006F-9E78-4D7A-8A6A-3048CACEB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D4AE5-F94E-45FA-A8F9-3C6B3D1E3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2A97E-7527-47C7-96DF-B8B03291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5A3BA-FA8E-4F02-93A7-7FE50FCE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16846-8F26-49C5-BE10-4B987D92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F1510-544D-4737-88D5-E5926E4D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066DF-0C5F-4ECD-AFD8-0AFFB55C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89845-949D-4692-A11C-A9D27599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D8E52-EF26-49F8-98C2-FD4F76FB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EB561-5AF3-46E0-824A-3E118AC2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8CEA-8A1C-45FA-8447-19AC00E2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D8F40-E0A4-4388-99CE-3A14BE68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E9BF8-C4BC-4230-8BF9-4D5922874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39C13-A1D8-40E5-BE64-544B62DAF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FEF3A-A9E1-4EF8-9820-C34D9D161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30967-10B7-4878-B73C-D3774AF0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4C9D8-843B-49CB-BD23-A1F3DEC7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AD3F3-401A-4495-B703-95286B49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26848-02B2-420F-B731-2DF18656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4EEA1-8908-414B-91F7-83C0D2EA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97E42-6AE3-4AFC-B7C1-47C7F8B9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BB90-EC41-4FEB-A89F-4B688A3A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05A28-CC27-44AD-8BA9-A2521959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1E9CE-ACFC-4977-9657-523ED298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851CF-C93E-4FB8-88E1-B91D173E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D4C96-9226-4188-9C8B-7E8536B3E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736AB-FBBB-4E3C-87FA-4C65BA5B9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D26CB-7CB0-43E6-924C-BD5350FE6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11231-5163-4F6A-A438-785C99BA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79E6A-8B2E-4586-AD2A-CF6E958E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C9C56-B623-4FC6-94B0-FB2D1B43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DA3EF-8ED6-460D-A73C-75634FF4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C657-04DC-4A6C-BF5A-99F64202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EFE10-DC24-4640-834C-1BFF363A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55644-BCE0-4F1F-8C28-2F9B10EA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48EA8-2DEE-418D-A3B7-FD62DC0C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61145-1157-402B-83DD-114522AC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1DA31-F6AA-473F-938E-C16DA58A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D7BE1-42D1-44C5-A061-57FF37F1D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B891E-BF42-4431-BDD0-DA2F45D76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F9219E-61D7-4D6C-82F5-6527A9074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EA7935-0B02-43D7-8940-B319FBED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5D21F9-312F-4E03-937D-21B7FE21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e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ba52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ba52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29D4-5B81-4F7C-9137-8E5733FC96CE}" type="slidenum">
              <a:rPr b="0" lang="en-US" sz="1600" spc="-1" strike="noStrike">
                <a:solidFill>
                  <a:srgbClr val="cba523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7bc2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092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c85c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cba52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e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e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7bc2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092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c85c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ba52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3BD8-D674-4B4F-8449-0CEB762E5E10}" type="slidenum">
              <a:rPr b="0" lang="en-US" sz="1600" spc="-1" strike="noStrike">
                <a:solidFill>
                  <a:srgbClr val="cba523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e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ba52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7bc2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092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c85c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ba52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C563-1AFF-452D-9220-B7BF8337D91C}" type="slidenum">
              <a:rPr b="0" lang="en-US" sz="1600" spc="-1" strike="noStrike">
                <a:solidFill>
                  <a:srgbClr val="cba523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e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cba52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7bc2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092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c85c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ba52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BEC3-A105-4845-BBB8-8DDC11C5DF6B}" type="slidenum">
              <a:rPr b="0" lang="en-US" sz="1600" spc="-1" strike="noStrike">
                <a:solidFill>
                  <a:srgbClr val="cba523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e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cba52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7bc2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092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c85c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ba52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FBE6-41C3-4DAD-8CA1-3D1A3748DEBE}" type="slidenum">
              <a:rPr b="0" lang="en-US" sz="1600" spc="-1" strike="noStrike">
                <a:solidFill>
                  <a:srgbClr val="cba523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e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ba52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7bc2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092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c85c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ba52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E5CC-B9F0-4016-9019-11E4723E4D64}" type="slidenum">
              <a:rPr b="0" lang="en-US" sz="1600" spc="-1" strike="noStrike">
                <a:solidFill>
                  <a:srgbClr val="cba523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e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cba52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7bc2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092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c85c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ba52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8C6D-AA12-4F1D-A53A-8D7F6DCFDE4D}" type="slidenum">
              <a:rPr b="0" lang="en-US" sz="1600" spc="-1" strike="noStrike">
                <a:solidFill>
                  <a:srgbClr val="cba523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e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ba52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444d2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7bc2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092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c85c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ba52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1F75-5FEB-4279-ADDD-2856D4CAC889}" type="slidenum">
              <a:rPr b="0" lang="en-US" sz="1600" spc="-1" strike="noStrike">
                <a:solidFill>
                  <a:srgbClr val="cba523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444d2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e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cba52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7bc2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092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c85c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ba52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5363-8A0B-40D4-AD6F-B3503BCF3B8C}" type="slidenum">
              <a:rPr b="0" lang="en-US" sz="1600" spc="-1" strike="noStrike">
                <a:solidFill>
                  <a:srgbClr val="cba523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e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ba52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7bc2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092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c85c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ba52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AAE5-781A-4078-A923-5E2A698C9D68}" type="slidenum">
              <a:rPr b="0" lang="en-US" sz="1600" spc="-1" strike="noStrike">
                <a:solidFill>
                  <a:srgbClr val="cba523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e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7bc2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092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c85c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3F77-4E2A-4F8B-9641-8FE820E1754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e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cba52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ba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e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3a44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7bc2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092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c85c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ba52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DEA1-DE15-4FEF-AE5B-A16969C5FD88}" type="slidenum">
              <a:rPr b="0" lang="en-US" sz="1600" spc="-1" strike="noStrike">
                <a:solidFill>
                  <a:srgbClr val="cba523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928800" y="2819520"/>
            <a:ext cx="7286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PROCUREMENT UNDER THE PROJECT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eorgia"/>
              </a:rPr>
              <a:t>National Electrification Project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301320" y="1523880"/>
            <a:ext cx="4040280" cy="7336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 fontScale="87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Georgia"/>
              </a:rPr>
              <a:t>Description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Georgia"/>
              </a:rPr>
              <a:t>(main packages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790880" y="1523520"/>
            <a:ext cx="4041720" cy="7318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 fontScale="95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Georgia"/>
              </a:rPr>
              <a:t>Expected  quotations opening dat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1320" y="2471400"/>
            <a:ext cx="4041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ffice Furnitur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mputer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ffice Equipmen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able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atellite Equipment for Interne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800600" y="2471760"/>
            <a:ext cx="4038480" cy="38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ebruary  2016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ebruary 2016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ebruary 2016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June 2016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rch 2016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Procurement of Goods under Shopping Method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/>
          </p:nvPr>
        </p:nvSpPr>
        <p:spPr>
          <a:xfrm>
            <a:off x="301320" y="1523880"/>
            <a:ext cx="4040280" cy="7336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Georgia"/>
              </a:rPr>
              <a:t>Description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790880" y="1523520"/>
            <a:ext cx="4041720" cy="7318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Georgia"/>
              </a:rPr>
              <a:t>Schedul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2471400"/>
            <a:ext cx="4041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24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ICB for Solar PV Systems for households, public institutions and street lights for 7 States/ Regions – Kayin, Chin, Sagaing, Tanintharyi, Rakhine, Shan and Ayeyawaddy (total 9 lots  in one ICB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624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ICB for Mini-Grid System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800600" y="2471760"/>
            <a:ext cx="4038480" cy="38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dvertisement and Issue Bidding Document – January 2016 (tentative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Bids Opening – March 2016 (tentative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dvertise and Issue BD -October 2016 (tentative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Bid Opening – December 2016 (tentative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Supply and Installation of Goods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301320" y="1523880"/>
            <a:ext cx="4040280" cy="7336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Georgia"/>
              </a:rPr>
              <a:t>Description of Assignment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790880" y="1523520"/>
            <a:ext cx="4041720" cy="7318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Georgia"/>
              </a:rPr>
              <a:t>Expected Proposals Submission Dat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2471400"/>
            <a:ext cx="4041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PMO Off-Grid Project Management Advisor (IC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Consultant to develop mini-hydro and mini-grid model (IC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Consultant to provide training on mini-hydro, solar, others technologies (Firm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4800600" y="2471760"/>
            <a:ext cx="4038480" cy="38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ebruary 2016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ctober 2016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ebruary 2016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lection of Consultants</a:t>
            </a:r>
            <a:br>
              <a:rPr sz="3000"/>
            </a:b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(main assignments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/>
          </p:nvPr>
        </p:nvSpPr>
        <p:spPr>
          <a:xfrm>
            <a:off x="301320" y="1523880"/>
            <a:ext cx="4040280" cy="7336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Georgia"/>
              </a:rPr>
              <a:t>Description of Assignment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790880" y="1523520"/>
            <a:ext cx="4041720" cy="7318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 fontScale="95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Georgia"/>
              </a:rPr>
              <a:t>Expected Proposals Submission Dat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2471400"/>
            <a:ext cx="4041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24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Design and Implementation of Public Outreach and Information Campaigns (Firm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624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Establishing baseline for impact evaluation (Firm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624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olar PV Inspection and Verification Consultant (Firm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800600" y="2471760"/>
            <a:ext cx="4038480" cy="38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ebruary 2016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ugust 2016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rch 2016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Selection of Consultants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/>
          </p:nvPr>
        </p:nvSpPr>
        <p:spPr>
          <a:xfrm>
            <a:off x="301320" y="1523880"/>
            <a:ext cx="4040280" cy="7336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Georgia"/>
              </a:rPr>
              <a:t>Description of Assignment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790880" y="1523520"/>
            <a:ext cx="4041720" cy="7318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Georgia"/>
              </a:rPr>
              <a:t>Expected Proposals Submission Dat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1320" y="2471400"/>
            <a:ext cx="4041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RD Solar Advisor (IC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IS Consultant (Firm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800600" y="2471760"/>
            <a:ext cx="4038480" cy="38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ebruary 2016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rch 2016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Selection of Consultants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0T07:40:50Z</dcterms:created>
  <dc:creator>AutoBVT</dc:creator>
  <dc:description/>
  <dc:language>en-US</dc:language>
  <cp:lastModifiedBy>Chaw Su Devi</cp:lastModifiedBy>
  <cp:lastPrinted>2015-11-23T04:16:27Z</cp:lastPrinted>
  <dcterms:modified xsi:type="dcterms:W3CDTF">2015-12-08T08:40:46Z</dcterms:modified>
  <cp:revision>23</cp:revision>
  <dc:subject/>
  <dc:title>National Electrification Project</dc:title>
</cp:coreProperties>
</file>